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8337B-9786-4608-82B0-70D5975FE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CCAAF-84F2-4FF7-B94B-298A24AED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45DB3-C88F-449F-974A-DE1FF1E03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D0970-77A7-40BB-872E-77119EAE5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FDBA0-07A8-4260-96B8-CBFE74D6B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631BB-839B-4FB5-9CDB-1C53BE635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7AA69-CCC8-42D6-ACE7-904125F37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AD3BA-FD68-4BD2-82C6-0DA0FA502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D2261-146B-4B4A-9681-9F9FADB20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2E617-666D-4185-8CCF-6D5864E23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061E8-B738-47F7-B477-3B6D7F354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58123-28D5-4A73-94FE-C047F143C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3170-66E6-42AD-AEBD-12ABC272FF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ea typeface="Times New Roman"/>
              </a:rPr>
              <a:t>10. Resolutsioonistrateegiad.</a:t>
            </a:r>
            <a:endParaRPr b="0" lang="en-US" sz="4400" spc="-1" strike="noStrike">
              <a:solidFill>
                <a:srgbClr val="000000"/>
              </a:solidFill>
              <a:latin typeface="Times New Roman"/>
            </a:endParaRPr>
          </a:p>
        </p:txBody>
      </p:sp>
      <p:sp>
        <p:nvSpPr>
          <p:cNvPr id="42"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esolutsioonimeetodi efektiivsust saab suurendada, rakendades mitmesuguseid strateegiaid, mis võimaldavad vähendada tuletatavate klauslite arvu, kaotamata seejuures meetodi täielikkus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3. Semantiline resolutsioon.</a:t>
            </a:r>
            <a:endParaRPr b="0" lang="en-US" sz="40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mantilise resolutsiooni ideeks on, et pole mõtet tuletada klausleid, mis on ilmselt kehtestatavad (sihiks on ju saavutada vastuol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5800" y="609480"/>
            <a:ext cx="7772400" cy="5486400"/>
          </a:xfrm>
          <a:prstGeom prst="rect">
            <a:avLst/>
          </a:prstGeom>
          <a:noFill/>
          <a:ln w="0">
            <a:noFill/>
          </a:ln>
        </p:spPr>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asutatakse mingit fikseeritud semantilist struktuuri M = (D, I) ning ei resolveerita</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aht sellel struktuuril kehtivat klauslit, sest resolvent oleks samuti kehtiv.</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Lisaks kasutatakse mingit alati tööd lõpetavat algoritmi, mis etteantud valemi kohta vastab kas “kindlasti väär” või “võibolla tõene” nii, et kui vastus on “kindlasti väär”, siis valem on kasutataval struktuuril väär, ja kui valem on tõene, siis vastus on “võibolla tõen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685800" y="609480"/>
            <a:ext cx="7772400" cy="5486400"/>
          </a:xfrm>
          <a:prstGeom prst="rect">
            <a:avLst/>
          </a:prstGeom>
          <a:noFill/>
          <a:ln w="0">
            <a:noFill/>
          </a:ln>
        </p:spPr>
        <p:txBody>
          <a:bodyPr lIns="90000" rIns="90000" tIns="46800" bIns="46800"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Konflikt</a:t>
            </a:r>
            <a:r>
              <a:rPr b="0" lang="et-EE" sz="3200" spc="-1" strike="noStrike">
                <a:solidFill>
                  <a:srgbClr val="000000"/>
                </a:solidFill>
                <a:latin typeface="Times New Roman"/>
                <a:ea typeface="Times New Roman"/>
              </a:rPr>
              <a:t> on lõplik klauslite hulk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N, E</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E</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us E</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E</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on struktuuril M “kindlasti väärad”, N ja E</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resolvendiks on R</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ja E</a:t>
            </a:r>
            <a:r>
              <a:rPr b="0" lang="et-EE" sz="3200" spc="-1" strike="noStrike" baseline="-30000">
                <a:solidFill>
                  <a:srgbClr val="000000"/>
                </a:solidFill>
                <a:latin typeface="Times New Roman"/>
                <a:ea typeface="Times New Roman"/>
              </a:rPr>
              <a:t>2</a:t>
            </a:r>
            <a:r>
              <a:rPr b="0" lang="et-EE" sz="3200" spc="-1" strike="noStrike">
                <a:solidFill>
                  <a:srgbClr val="000000"/>
                </a:solidFill>
                <a:latin typeface="Times New Roman"/>
                <a:ea typeface="Times New Roman"/>
              </a:rPr>
              <a:t> resolvendiks on R</a:t>
            </a:r>
            <a:r>
              <a:rPr b="0" lang="et-EE" sz="3200" spc="-1" strike="noStrike" baseline="-30000">
                <a:solidFill>
                  <a:srgbClr val="000000"/>
                </a:solidFill>
                <a:latin typeface="Times New Roman"/>
                <a:ea typeface="Times New Roman"/>
              </a:rPr>
              <a:t>2</a:t>
            </a:r>
            <a:r>
              <a:rPr b="0" lang="et-EE" sz="3200" spc="-1" strike="noStrike">
                <a:solidFill>
                  <a:srgbClr val="000000"/>
                </a:solidFill>
                <a:latin typeface="Times New Roman"/>
                <a:ea typeface="Times New Roman"/>
              </a:rPr>
              <a:t> . . . ja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a:t>
            </a:r>
            <a:r>
              <a:rPr b="0" lang="et-EE" sz="3200" spc="-1" strike="noStrike" baseline="-30000">
                <a:solidFill>
                  <a:srgbClr val="000000"/>
                </a:solidFill>
                <a:latin typeface="Times New Roman"/>
                <a:ea typeface="Times New Roman"/>
              </a:rPr>
              <a:t>n-1 </a:t>
            </a:r>
            <a:r>
              <a:rPr b="0" lang="et-EE" sz="3200" spc="-1" strike="noStrike">
                <a:solidFill>
                  <a:srgbClr val="000000"/>
                </a:solidFill>
                <a:latin typeface="Times New Roman"/>
                <a:ea typeface="Times New Roman"/>
              </a:rPr>
              <a:t>ja E</a:t>
            </a:r>
            <a:r>
              <a:rPr b="0" lang="et-EE" sz="3200" spc="-1" strike="noStrike" baseline="-30000">
                <a:solidFill>
                  <a:srgbClr val="000000"/>
                </a:solidFill>
                <a:latin typeface="Times New Roman"/>
                <a:ea typeface="Times New Roman"/>
              </a:rPr>
              <a:t>n-1 </a:t>
            </a:r>
            <a:r>
              <a:rPr b="0" lang="et-EE" sz="3200" spc="-1" strike="noStrike">
                <a:solidFill>
                  <a:srgbClr val="000000"/>
                </a:solidFill>
                <a:latin typeface="Times New Roman"/>
                <a:ea typeface="Times New Roman"/>
              </a:rPr>
              <a:t>resolvendiks on R</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a:t>
            </a:r>
            <a:r>
              <a:rPr b="0" lang="et-EE" sz="3200" spc="-1" strike="noStrike" baseline="-30000">
                <a:solidFill>
                  <a:srgbClr val="000000"/>
                </a:solidFill>
                <a:latin typeface="Times New Roman"/>
                <a:ea typeface="Times New Roman"/>
              </a:rPr>
              <a:t>1 </a:t>
            </a:r>
            <a:r>
              <a:rPr b="0" lang="et-EE" sz="3200" spc="-1" strike="noStrike">
                <a:solidFill>
                  <a:srgbClr val="000000"/>
                </a:solidFill>
                <a:latin typeface="Times New Roman"/>
                <a:ea typeface="Times New Roman"/>
              </a:rPr>
              <a:t>, . . . , R</a:t>
            </a:r>
            <a:r>
              <a:rPr b="0" lang="et-EE" sz="3200" spc="-1" strike="noStrike" baseline="-30000">
                <a:solidFill>
                  <a:srgbClr val="000000"/>
                </a:solidFill>
                <a:latin typeface="Times New Roman"/>
                <a:ea typeface="Times New Roman"/>
              </a:rPr>
              <a:t>n-1 </a:t>
            </a:r>
            <a:r>
              <a:rPr b="0" lang="et-EE" sz="3200" spc="-1" strike="noStrike">
                <a:solidFill>
                  <a:srgbClr val="000000"/>
                </a:solidFill>
                <a:latin typeface="Times New Roman"/>
                <a:ea typeface="Times New Roman"/>
              </a:rPr>
              <a:t>on struktuuril M “võibolla tõesed”, aga R</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kindlasti vää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lauslit N nimetatakse </a:t>
            </a:r>
            <a:r>
              <a:rPr b="0" i="1" lang="et-EE" sz="3200" spc="-1" strike="noStrike">
                <a:solidFill>
                  <a:srgbClr val="000000"/>
                </a:solidFill>
                <a:latin typeface="Times New Roman"/>
                <a:ea typeface="Times New Roman"/>
              </a:rPr>
              <a:t>konflikti tuumaks</a:t>
            </a:r>
            <a:r>
              <a:rPr b="0" lang="et-EE" sz="3200" spc="-1" strike="noStrike">
                <a:solidFill>
                  <a:srgbClr val="000000"/>
                </a:solidFill>
                <a:latin typeface="Times New Roman"/>
                <a:ea typeface="Times New Roman"/>
              </a:rPr>
              <a:t>, klausleid E</a:t>
            </a:r>
            <a:r>
              <a:rPr b="0" lang="et-EE" sz="3200" spc="-1" strike="noStrike" baseline="-30000">
                <a:solidFill>
                  <a:srgbClr val="000000"/>
                </a:solidFill>
                <a:latin typeface="Times New Roman"/>
                <a:ea typeface="Times New Roman"/>
              </a:rPr>
              <a:t>1 </a:t>
            </a:r>
            <a:r>
              <a:rPr b="0" lang="et-EE" sz="3200" spc="-1" strike="noStrike">
                <a:solidFill>
                  <a:srgbClr val="000000"/>
                </a:solidFill>
                <a:latin typeface="Times New Roman"/>
                <a:ea typeface="Times New Roman"/>
              </a:rPr>
              <a:t>, . . . E</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a:t>
            </a:r>
            <a:r>
              <a:rPr b="0" i="1" lang="et-EE" sz="3200" spc="-1" strike="noStrike">
                <a:solidFill>
                  <a:srgbClr val="000000"/>
                </a:solidFill>
                <a:latin typeface="Times New Roman"/>
                <a:ea typeface="Times New Roman"/>
              </a:rPr>
              <a:t>elektronideks</a:t>
            </a:r>
            <a:r>
              <a:rPr b="0" lang="et-EE" sz="3200" spc="-1" strike="noStrike">
                <a:solidFill>
                  <a:srgbClr val="000000"/>
                </a:solidFill>
                <a:latin typeface="Times New Roman"/>
                <a:ea typeface="Times New Roman"/>
              </a:rPr>
              <a:t> ning</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t R</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tema </a:t>
            </a:r>
            <a:r>
              <a:rPr b="0" i="1" lang="et-EE" sz="3200" spc="-1" strike="noStrike">
                <a:solidFill>
                  <a:srgbClr val="000000"/>
                </a:solidFill>
                <a:latin typeface="Times New Roman"/>
                <a:ea typeface="Times New Roman"/>
              </a:rPr>
              <a:t>resolvendiks</a:t>
            </a:r>
            <a:r>
              <a:rPr b="0" lang="et-EE"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mantilise resolutsiooni reegel lubab konfliktist tuletada tema resolvendi.</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mantiline resolutsioon on täielik.</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4. Hüperresolutsioon.</a:t>
            </a:r>
            <a:endParaRPr b="0" lang="en-US" sz="4000" spc="-1" strike="noStrike">
              <a:solidFill>
                <a:srgbClr val="000000"/>
              </a:solidFill>
              <a:latin typeface="Times New Roman"/>
            </a:endParaRPr>
          </a:p>
        </p:txBody>
      </p:sp>
      <p:sp>
        <p:nvSpPr>
          <p:cNvPr id="59"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Hüperresolutsioon on semantilise resolutsiooni lihtne eriju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Positiivseks Herbrandi struktuuriks </a:t>
            </a:r>
            <a:r>
              <a:rPr b="0" lang="et-EE" sz="3200" spc="-1" strike="noStrike">
                <a:solidFill>
                  <a:srgbClr val="000000"/>
                </a:solidFill>
                <a:latin typeface="Times New Roman"/>
                <a:ea typeface="Times New Roman"/>
              </a:rPr>
              <a:t>nimetatakse struktuuri, kus põhihulgaks on kõik</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innised termid ning iga kinnine aatom on tõen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ositiivses Herbrandi struktuuris klausel on klausel väär parajasti siis, kui ta on</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negatiivne, st kõik literaalid on negatiivsed.</a:t>
            </a:r>
            <a:endParaRPr b="0" lang="en-US" sz="3200" spc="-1" strike="noStrike">
              <a:solidFill>
                <a:srgbClr val="000000"/>
              </a:solidFill>
              <a:latin typeface="Times New Roman"/>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Negatiivseks Herbrandi struktuuriks </a:t>
            </a:r>
            <a:r>
              <a:rPr b="0" lang="et-EE" sz="3200" spc="-1" strike="noStrike">
                <a:solidFill>
                  <a:srgbClr val="000000"/>
                </a:solidFill>
                <a:latin typeface="Times New Roman"/>
                <a:ea typeface="Times New Roman"/>
              </a:rPr>
              <a:t>nimetatakse struktuuri, kus põhihulgaks on kõik</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innised termid ning iga kinnine aatom on vää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Negatiivses Herbrandi struktuuris on klausel väär parajasti siis, kui ta on positiivne, st</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õik literaalid on positiiv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Positiivseks hüperresolutsiooniks </a:t>
            </a:r>
            <a:r>
              <a:rPr b="0" lang="et-EE" sz="3200" spc="-1" strike="noStrike">
                <a:solidFill>
                  <a:srgbClr val="000000"/>
                </a:solidFill>
                <a:latin typeface="Times New Roman"/>
                <a:ea typeface="Times New Roman"/>
              </a:rPr>
              <a:t>nimetatakse on semantilist resolutsiooni, ku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struktuuriks on negatiivne Herbrandi struktuur, st elektronideks ja resolventidek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valifitseeruvad positiivsed klausl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ositiivne hüperresolutsioon vastab pärisuunalisele arutluse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Negatiivseks hüperresolutsiooniks </a:t>
            </a:r>
            <a:r>
              <a:rPr b="0" lang="et-EE" sz="3200" spc="-1" strike="noStrike">
                <a:solidFill>
                  <a:srgbClr val="000000"/>
                </a:solidFill>
                <a:latin typeface="Times New Roman"/>
                <a:ea typeface="Times New Roman"/>
              </a:rPr>
              <a:t>nimetatakse semantilist resolutsiooni, ku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struktuuriks on positiivne Herbrandi struktuur, st elektronideks ja resolventidek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valifitseeruvad negatiivsed klausli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Negatiivne hüperresolutsioon vastab tagasisuunalisele arutluse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5. Tugihulga-resolutsioon.</a:t>
            </a:r>
            <a:endParaRPr b="0" lang="en-US" sz="40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ugihulga-resolutsioon on teine oluline semantilise resolutsiooni erijuht.</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ageli ei soovi me veenduda üksiku valemi B üldkehtivuses, vaid B järelduvuse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mingitest valemitest A</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 . . , A</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 kus viimased valemid on mingil meie poolt silma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peetud kavatsetud struktuuril tõe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1. Kustutusstrateegiad.</a:t>
            </a:r>
            <a:endParaRPr b="0" lang="en-US" sz="4000" spc="-1" strike="noStrike">
              <a:solidFill>
                <a:srgbClr val="000000"/>
              </a:solidFill>
              <a:latin typeface="Times New Roman"/>
            </a:endParaRPr>
          </a:p>
        </p:txBody>
      </p:sp>
      <p:sp>
        <p:nvSpPr>
          <p:cNvPr id="44" name=""/>
          <p:cNvSpPr txBox="1"/>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ustutusstrateegiad elimineerivad klauslid, millest ei saa olla kas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Times New Roman"/>
                <a:ea typeface="Times New Roman"/>
              </a:rPr>
              <a:t>Katmine (neelamine).</a:t>
            </a:r>
            <a:endParaRPr b="0" lang="en-US" sz="3200" spc="-1" strike="noStrike">
              <a:solidFill>
                <a:srgbClr val="000000"/>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Ütleme, et klausel C </a:t>
            </a:r>
            <a:r>
              <a:rPr b="0" i="1" lang="et-EE" sz="3200" spc="-1" strike="noStrike">
                <a:solidFill>
                  <a:srgbClr val="000000"/>
                </a:solidFill>
                <a:latin typeface="Times New Roman"/>
                <a:ea typeface="Times New Roman"/>
              </a:rPr>
              <a:t>katab </a:t>
            </a:r>
            <a:r>
              <a:rPr b="0" lang="et-EE" sz="3200" spc="-1" strike="noStrike">
                <a:solidFill>
                  <a:srgbClr val="000000"/>
                </a:solidFill>
                <a:latin typeface="Times New Roman"/>
                <a:ea typeface="Times New Roman"/>
              </a:rPr>
              <a:t>C’ (tähistus C</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C’), kui C on kujul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ja C’ on kujul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atmine tähendab, et klausel C on üldisem või sama üldine kui C’</a:t>
            </a:r>
            <a:r>
              <a:rPr b="0" lang="et-EE" sz="3200" spc="-1" strike="noStrike">
                <a:solidFill>
                  <a:srgbClr val="000000"/>
                </a:solidFill>
                <a:latin typeface="Times New Roman"/>
              </a:rPr>
              <a: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lauselkujul soovime veenduda klauslihulga S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S’ vastuolulisuses, kus S esitab</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eelduste konjunktsiooni A</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A</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ning S’ järelduse eitus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B.</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lles olukorras teame, et S ei ole vastuoluline, st ei ole mõtet resolveerida hulga 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eid omavahel. Tugihulga-resolutsioon nõuab, et kahest resolveeritavast klauslit üks oleks </a:t>
            </a:r>
            <a:r>
              <a:rPr b="0" i="1" lang="et-EE" sz="3200" spc="-1" strike="noStrike">
                <a:solidFill>
                  <a:srgbClr val="000000"/>
                </a:solidFill>
                <a:latin typeface="Times New Roman"/>
                <a:ea typeface="Times New Roman"/>
              </a:rPr>
              <a:t>tugihulgast</a:t>
            </a:r>
            <a:r>
              <a:rPr b="0" lang="et-EE" sz="3200" spc="-1" strike="noStrike">
                <a:solidFill>
                  <a:srgbClr val="000000"/>
                </a:solidFill>
                <a:latin typeface="Times New Roman"/>
                <a:ea typeface="Times New Roman"/>
              </a:rPr>
              <a:t>, s.t. kas hulgast S’ või sellest eelneva resolutsiooni teel saadu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ugihulga-resolutsioon on täielik eeldusel, et klauslihulk S on kehtestatav (omab</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vähemalt üht mudel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6. Lineaarresolutsioon.</a:t>
            </a:r>
            <a:endParaRPr b="0" lang="en-US" sz="4000" spc="-1" strike="noStrike">
              <a:solidFill>
                <a:srgbClr val="000000"/>
              </a:solidFill>
              <a:latin typeface="Times New Roman"/>
            </a:endParaRPr>
          </a:p>
        </p:txBody>
      </p:sp>
      <p:sp>
        <p:nvSpPr>
          <p:cNvPr id="70"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Lineaarresolutsioon </a:t>
            </a:r>
            <a:r>
              <a:rPr b="0" lang="et-EE" sz="3200" spc="-1" strike="noStrike">
                <a:solidFill>
                  <a:srgbClr val="000000"/>
                </a:solidFill>
                <a:latin typeface="Times New Roman"/>
                <a:ea typeface="Times New Roman"/>
              </a:rPr>
              <a:t>on resolutsioonistrateegia, kus on otsitakse ainult selliseid</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tuletusi, kus iga resolutsioonireegli rakenduse üks eeldusi on viimasena tuletatud</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el (teine eeldus võib olla sisendklausel või mõni varem tuletatud klaus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Lineaarresolutsioon on täieli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Sisendresolutsiooniks </a:t>
            </a:r>
            <a:r>
              <a:rPr b="0" lang="et-EE" sz="3200" spc="-1" strike="noStrike">
                <a:solidFill>
                  <a:srgbClr val="000000"/>
                </a:solidFill>
                <a:latin typeface="Times New Roman"/>
                <a:ea typeface="Times New Roman"/>
              </a:rPr>
              <a:t>nimetatakse resolutsioonistrateegiat, kus otsitakse selliseid</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tuletusi, kus iga resolutsioonireegli rakenduse üks eeldusi on viimasena tuletatud</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el ja teine on sisendklaus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isendresolutsioon ei ole täieli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ea typeface="Times New Roman"/>
              </a:rPr>
              <a:t>10.7. Järjestatud resolutsioon.</a:t>
            </a:r>
            <a:endParaRPr b="0" lang="en-US" sz="4400" spc="-1" strike="noStrike">
              <a:solidFill>
                <a:srgbClr val="000000"/>
              </a:solidFill>
              <a:latin typeface="Times New Roman"/>
            </a:endParaRPr>
          </a:p>
        </p:txBody>
      </p:sp>
      <p:sp>
        <p:nvSpPr>
          <p:cNvPr id="73"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Järjestatud resolutsioon</a:t>
            </a:r>
            <a:r>
              <a:rPr b="0" lang="et-EE" sz="3200" spc="-1" strike="noStrike">
                <a:solidFill>
                  <a:srgbClr val="000000"/>
                </a:solidFill>
                <a:latin typeface="Times New Roman"/>
                <a:ea typeface="Times New Roman"/>
              </a:rPr>
              <a:t> on selline strateegia, kus osa resolutsiooni võimalikke rakendusi on ära keelatu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Defineeritakse literaalide järjestus, s.t. meetod, mis võimaldab iga kahe literaali A ja B korral kontrollida, kas A&g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esolutsioonireeglil keelatakse klauslis selliste literaalide äralõikamine, millest suuremaid literaale klausel sisaldab (seega saab ära lõigata antud järjestuse mõttes kõige suuremaid literaal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Järjestatud resolutsiooni täielikkuse kohta ei osata veel vastust an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On selge, et kaetud klauslitest pole kasu, need võib eemaldada. Kui S on hulk</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eid ning S’on selle alamhulk, kusjuures iga klausel hulgast S on kaetud mingi</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ga hulgast S’, siis juhul kui hulgast S saab k sammuga tuletada tühja klausli,</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saab selle k sammuga tuletada ka hulgast S’.</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ega, kui tuletatakse klausel C, mille katab mõni juba olemasolev klausel, siis C kõrvaldatakse, ning kui C ise katab mõne olemasoleva klausli D, kõrvaldatakse D.</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Times New Roman"/>
                <a:ea typeface="Times New Roman"/>
              </a:rPr>
              <a:t>Tautoloogiate kõrvaldamin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Tautoloogiliseks klausliks </a:t>
            </a:r>
            <a:r>
              <a:rPr b="0" lang="et-EE" sz="3200" spc="-1" strike="noStrike">
                <a:solidFill>
                  <a:srgbClr val="000000"/>
                </a:solidFill>
                <a:latin typeface="Times New Roman"/>
                <a:ea typeface="Times New Roman"/>
              </a:rPr>
              <a:t>nimetame klauslit kujul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autoloogiad on samuti kasutud. Kui C on tautoloogiline, siis tema resolvent iga teise</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ga C’ on kas samuti tautoloogiline või temaga kaetud.</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lausel C on klauslite hulgas S </a:t>
            </a:r>
            <a:r>
              <a:rPr b="0" i="1" lang="et-EE" sz="3200" spc="-1" strike="noStrike">
                <a:solidFill>
                  <a:srgbClr val="000000"/>
                </a:solidFill>
                <a:latin typeface="Times New Roman"/>
                <a:ea typeface="Times New Roman"/>
              </a:rPr>
              <a:t>puha</a:t>
            </a:r>
            <a:r>
              <a:rPr b="0" lang="et-EE" sz="3200" spc="-1" strike="noStrike">
                <a:solidFill>
                  <a:srgbClr val="000000"/>
                </a:solidFill>
                <a:latin typeface="Times New Roman"/>
                <a:ea typeface="Times New Roman"/>
              </a:rPr>
              <a:t>s, kui ta sisaldab puhast literaali, s.t. on kujul</a:t>
            </a:r>
            <a:r>
              <a:rPr b="0" lang="et-EE"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või vastaval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kus A ei unifitseeru ühegi aatomiga ühegi 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 vasakus pooles (paremas pool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uhtad klauslid on kasutud: puhta klausli resolvent suvalise teise klausliga jääb</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puhta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2. Ühikresolutsioon.</a:t>
            </a:r>
            <a:endParaRPr b="0" lang="en-US" sz="4000" spc="-1" strike="noStrike">
              <a:solidFill>
                <a:srgbClr val="000000"/>
              </a:solidFill>
              <a:latin typeface="Times New Roman"/>
            </a:endParaRPr>
          </a:p>
        </p:txBody>
      </p:sp>
      <p:sp>
        <p:nvSpPr>
          <p:cNvPr id="49"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Ühikklausel </a:t>
            </a:r>
            <a:r>
              <a:rPr b="0" lang="et-EE" sz="3200" spc="-1" strike="noStrike">
                <a:solidFill>
                  <a:srgbClr val="000000"/>
                </a:solidFill>
                <a:latin typeface="Times New Roman"/>
                <a:ea typeface="Times New Roman"/>
              </a:rPr>
              <a:t>on klausel kujul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või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kus A on muidugi aat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Ühikresolutsiooniks </a:t>
            </a:r>
            <a:r>
              <a:rPr b="0" lang="et-EE" sz="3200" spc="-1" strike="noStrike">
                <a:solidFill>
                  <a:srgbClr val="000000"/>
                </a:solidFill>
                <a:latin typeface="Times New Roman"/>
                <a:ea typeface="Times New Roman"/>
              </a:rPr>
              <a:t>nimetame resolutsiooniarvutuse varianti, kus resolutsioonireeglile</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on pandud kitsendus, et vähemalt üks eeldustest peab olema ühikklaus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Ühikresolutsioon pole täielik.</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Nt</a:t>
            </a:r>
            <a:r>
              <a:rPr b="0" lang="et-EE" sz="3200" spc="-1" strike="noStrike">
                <a:solidFill>
                  <a:srgbClr val="000000"/>
                </a:solidFill>
                <a:latin typeface="Times New Roman"/>
              </a:rPr>
              <a:t>.</a:t>
            </a:r>
            <a:r>
              <a:rPr b="0" lang="et-EE" sz="3200" spc="-1" strike="noStrike">
                <a:solidFill>
                  <a:srgbClr val="000000"/>
                </a:solidFill>
                <a:latin typeface="Times New Roman"/>
                <a:ea typeface="Times New Roman"/>
              </a:rPr>
              <a:t> klauslihulgast</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p, q</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q</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 q </a:t>
            </a:r>
            <a:r>
              <a:rPr b="0" lang="et-EE"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q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p</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aab tavalise resolutsiooniga tuletada tühja klausli, aga ühikresolutsiooniga mitte (sest</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pole ühikklauslei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äielik ei ole ka algoritm, kus eelistus on antud ühikklauslitele, s.o võimalusel</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rakendatakse resolutsioonireeglit alati ühikklauslile. Kui lisame eeltoodud</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hulgale veel klauslid</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r(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x)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r(f(x))</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saame alati resolutsiooni rakendada uuele ühikklauslile, aga nii et jõua me kunagi tühja klausli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Horni klausliks </a:t>
            </a:r>
            <a:r>
              <a:rPr b="0" lang="et-EE" sz="3200" spc="-1" strike="noStrike">
                <a:solidFill>
                  <a:srgbClr val="000000"/>
                </a:solidFill>
                <a:latin typeface="Times New Roman"/>
                <a:ea typeface="Times New Roman"/>
              </a:rPr>
              <a:t>nimetasime klauslit, mille paremal poolel on ülimalt üks aatom.</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Ühikresolutsioon on täielik Horni klauslite jao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09:20:09Z</dcterms:created>
  <dc:creator>Tiina Zingel</dc:creator>
  <dc:description/>
  <dc:language>en-US</dc:language>
  <cp:lastModifiedBy>Tiina Zingel</cp:lastModifiedBy>
  <dcterms:modified xsi:type="dcterms:W3CDTF">2006-04-24T10:00:47Z</dcterms:modified>
  <cp:revision>2</cp:revision>
  <dc:subject/>
  <dc:title>9. Võrdusega predikaatarvutus.</dc:title>
</cp:coreProperties>
</file>